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7634"/>
        <c:axId val="5659914"/>
      </c:barChart>
      <c:catAx>
        <c:axId val="5287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914"/>
        <c:crosses val="autoZero"/>
        <c:auto val="1"/>
        <c:lblAlgn val="ctr"/>
        <c:lblOffset val="100"/>
        <c:noMultiLvlLbl val="0"/>
      </c:catAx>
      <c:valAx>
        <c:axId val="5659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7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8D4-C522-4192-ACEA-DA7977EC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FF3-F3AE-4FA8-9100-835A0B1A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5B5-371B-49AE-BAC9-FE6BB768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0C1-A038-44A6-BDBD-D6B23FEA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90C-D5F1-4F93-8636-D57BC429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FFC-39E4-4008-94C4-3AA132BF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1C7-40CE-4008-9F39-5834C2F6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28E-0E2C-449B-886B-404D2E0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91F-C03A-46F3-978C-2AD1081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01C-1BE8-4C4C-BC6A-5E01FE7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638-DAB1-4F10-A6DF-3DA18566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0F0-3AD7-4BF5-BD44-AA484B1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1946E-41C8-4AC0-97ED-F3F9F1710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